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8B7E-421C-43AF-9846-F6135B1CE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0DD2-C938-43CE-86E3-C5727B11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3C4A-1D4F-4CD4-96B9-D52B6C483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3C68-75D0-4726-8E8A-18A3B1B87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493B-D0D4-4690-8D1C-6306ABD8B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3B5F-413F-42F9-8448-272C70FD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C8CA-7095-49FD-9E5A-F9EC9002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B9BA-5F49-431C-90E7-20B4165C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5725-D389-41B3-8A0B-A31BEDE5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1056-0271-4279-B266-6D1154E2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46E6-FF7F-4B10-9798-88BBC868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C4F4-D311-4E1E-AFBC-C1CB03B9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E93B-A219-438F-8C8A-D906293E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EA27-5038-493F-B2CB-D1572D75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2D87-9929-4309-8FF6-92404EF5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A7B6-11CA-42C0-BF11-E476BFF66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9793B-E23D-44D3-9F7F-291A9BC9F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161B-DCE9-40C4-A9BA-E7955293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C810-9986-43E4-9755-9C00E7EC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88D0-C40F-4C7B-9A14-014278B9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5887-086D-4455-B4A1-C6A681F1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78F1-4012-4E3B-8D70-6DE76F51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71FF-A624-4E2F-8FEA-5241DD01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D303-C731-49D3-B14A-368F24A1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2D5C-C82F-40CD-9538-04F5D3F22DD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A941-ACB9-4BE1-BBBC-3CA0FC27A63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How Long, O Lord?”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13, Lesson 2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lation 12-2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139-15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cap of Revelation 1-11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chapters show the conflicts between good and evil from the standpoint o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e ear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d’s wrath is poured upon the wicked upon the ear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aints upon the earth were sealed and protec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rist was victorious. His kingdom was established in spite of the oppos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Chapters 12-22 we go behind the scenes and see that the forces acting out upon the earth-stage were directed by Satan’s forces versus God’s for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us, Satan versus God in drama scenes of beasts and Dragon versus the Lamb of God and His Help of His peop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Conflict Between God and Sata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. 12-2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Dragon Tries To Destroy The Glorious Woman With Child – ch.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hild is Christ, the Woman is the Faithful Remna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Glorious Woman is Protec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weapons for overcoming the Drag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blood of the Lamb – 12:1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Word of Their (Apostles) Testimony – 12:1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ir Faith Commitment to the Dea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lus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Conflict Between God and Sata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Emerging of the Dragon’s Helpers – ch. 1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Sea Beast = The Roman Govern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saints will have to be patient and faithful – v.9-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Earth Beast = Religious-Political Combination in the Land (Israel) – v.11-1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Lamb Preserves A People – ch. 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nds out the Gospel and reaps a harve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esses unbelieving Israel into the winepress of His wrat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even Last Plagues – ch. 1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Bowls of Wrath – ch. 1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ke the plagues upon Egyp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athering an army to battle (Armageddon) to press the Great City (Jerusalem called “Babylon”) under His wrat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lus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Conflict Between God and Sata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bylon the Great – ch. 1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other of Harlo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erusalem had filled her harlotry to the brink of disaster – Jer. 2:7; 4:1; 6:15; 7:10,30; 44:1-1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he rode upon the beast (Roman government) to assist her against the servants of Chri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all of Babylon – ch. 1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ints called to leave – v.4-5; Compare Matt. 24:15-1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all for double punishment – v.6-8 – Compare Matt. 23:34-3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Lamentations over her destruction – v.9-1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elebration of the saints who were now “avenged” – v.20-2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lus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Conflict Between God and Sata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Victory of Christ Over All Foes – ch. 1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lebration over Babylon’s fall – v.1-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lebration over the Lamb’s marriage – v.7-1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Defeat of the Sea and Earth Beasts – v.17-2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inding of Satan And How It Will All End – ch. 20-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000 year reprieve of such government led persecu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osed a “little time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st into the Lake of Fi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lus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Conflict Between God and Sata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ew Jerusalem – ch. 21-2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orious and Ne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and Man Tabernacled Toge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lory and beau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adise Resto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lus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1T02:37:12Z</dcterms:created>
  <dc:creator>Terry W. Benton</dc:creator>
  <dc:description/>
  <dc:language>en-US</dc:language>
  <cp:lastModifiedBy>Frank D Vines</cp:lastModifiedBy>
  <dcterms:modified xsi:type="dcterms:W3CDTF">2007-07-04T19:15:26Z</dcterms:modified>
  <cp:revision>4</cp:revision>
  <dc:subject/>
  <dc:title>“How Long, O Lord?”</dc:title>
</cp:coreProperties>
</file>